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9331-0EEF-488B-B4D3-F138E41F1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0244-F946-40F8-9B64-7E0F293C3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F56D-60E9-441B-93FD-09F241F5A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0A26-E828-4534-92C1-1209ACDF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19D7-164B-4382-B6EF-9FE625BC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4C13-4D6D-4ED0-99CA-CDD7D3F8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4C0C-576E-47B4-8C5D-6E4B6E3D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5418-A3DD-4666-B123-248F1F11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7E01-8BA4-4726-9779-32DA45F4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6017-50B7-4DA7-A017-971B066D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7164-8EB6-4158-A249-7D616F87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ACDC-65CE-4BF4-BCF1-19F90329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21F1-7511-4256-B9E1-87AD98538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684360" y="2637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400" spc="-1" strike="noStrike">
                <a:solidFill>
                  <a:srgbClr val="000000"/>
                </a:solidFill>
                <a:latin typeface="Arial"/>
              </a:rPr>
              <a:t>БАЛНЕОТЕРАП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32000" y="5516640"/>
            <a:ext cx="64008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ц. др Катарина Парезановић Ил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одела према милимоларној концентрациј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а основу милимоларних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концентрација јона могуце је поредити минералне воде са осмотским притиском крви. Према таквој анализи минералне воде се деле на хипотоне, изотоне и хипертоне. Изотоне воде треба да имају укупну милимоларрну концентрацију око 300, а што одговара раствору од 9 гр NaCl /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ол= молекуларна те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на (МГ), атомска те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ина у грам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734544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Минералне воде према темперури се деле на хладне и топле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Хладне воде су када је температура мања од&lt; 20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, а топле када је температура веца од &gt; 20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Хипотермне су од 20-30 степени, хомеотермне 30-40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и хипертерме изнад 40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(Врањска бања, Јошан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ка бања, Куршумлијска и др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Радиоактивно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8558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Радиокативност -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у минералним водама нај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ш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е има радона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који је еманација радију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Полу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ивот му је 3,82 дана, емитује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зраке. Алфа имају лековита својства и налазе се у водама Нишке бање као и Сокобањ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4920" y="304920"/>
            <a:ext cx="828036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Класификација минералних вод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4582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Воде које сад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р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више од 1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воде суве супстанце. Карактер ових вода одр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ују јони који су заступљени са више од 20 миливал. Ове воде на основу минералних састојака делимо на хидрокарбонатне (NaCl i KCl су алкалне и земноалкалне ако садрзе Ca, Mg), сулфатне: (Na сулфатне и Mg сулфатне) и хлоридне (слане воде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Минералне воде које садр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мале коли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ине минералних састојака, али који су зн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ајно биолошки активни. Овде спадају след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воде: сулфидне-садр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најмање 1mg/l раствореног сумпора, јодне-садр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најмање 1mg/l раствореног јода, гвоздјевите-садрзе минимално 10 mg/l раствореног гво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ђ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а, арсенске-садр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е најмање 0,7 mg As/l вод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Класификација минералних 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Минералне воде које садр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 растворене гасове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Ове воде се деле н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угљенокиселе-сард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 најмање 1 гр/л раствореног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2 (Бујанов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а бања), сулфидне – садр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 мале коли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ине H2S и радонс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Олигоминералне воде "дивље воде". Ове воде садрзе до 1 г/л растворене супстанце. Температура је 2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° (Пролом бања). Како ове воде немају много соли могу да се пију као диуретско средство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-3 литрa на д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4920" y="556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ин употребе минералних 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78483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пијење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купање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вагиналним испирањ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 инхалирање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јодно бром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радиоактив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слане и хидрокарбонатне вод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амзиградска бањ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Slika 3"/>
          <p:cNvPicPr/>
          <p:nvPr/>
        </p:nvPicPr>
        <p:blipFill>
          <a:blip r:embed="rId1"/>
          <a:stretch/>
        </p:blipFill>
        <p:spPr>
          <a:xfrm>
            <a:off x="1676520" y="2158920"/>
            <a:ext cx="5562360" cy="394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2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ЕФИНИЦИЈ</a:t>
            </a: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Балнеологија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је на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а дисиплина која проу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ава природне лековите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иниоце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Балнеотерапија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је кориш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ење природних лековитих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иниоца у профилакти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ке и терапијске сврх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Минералне в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од минералним водама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е подразумевају воде које имају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више од l/gr/l воде, минералних састојака или је температура воде таква да се мо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е користити у терапијске сврхе. Према геолошком пореклу минералне воде се деле на јувенилне, вадозне и фосил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Јувенилне вод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803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175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Јувенилне вод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потичу из усијане магме која се у унутрашњости земље налази под великим притиском. Ако се тај притисак услед тектонских поремећаја смањи, прегрејана водена пара садржана у магми излази из ње и продире у слојеве б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е з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мнљиној површини.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утем се хлади и кондензује, а отапањем минерала из разних земљиних слојева, ст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е минерализацију. Кон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но овако минерализована вода избија, на површину земље, на местима најмањег отпора у облику извора. Јувенилне воде се одликују константним хемијским саставом, температуром и капацитетом извир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Вадозне в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756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Вадозне воде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су површинске воде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Након обилних падавина површинске воде пониру у земљу, бивају обог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не минералима и гасовима , да би се поново појавиле на површини као минералне воде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Ове воде мењ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у током године састав, температуру и капацитете извирања,а што зависи од коли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ине падави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Фосилне (дубинске) во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1360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Фосилне (дубинске) воде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 долазе из великих дубина и оне су по саставу стабилније и топлије. Настају из падавина које продиру у дубоке пешчане и шљунчане слојеве и ту остају затвирене, јер се се на те слојеве исталожили непропусни слојеви. До тих вода се допире обично бушењем, а како су окружене непропусним слојевима, то се не могу обнављати, те им је трајање ограничено. Такве воде често прате налазишта петролеја па се називају петролејским водама, а како уз то садрже јод, зову се и јодне вод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Карактеристике минералних в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сновне карактеристике минералних вода с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минерализациј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јонски саста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температур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садр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ај гасов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радиоактивност и д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Минерализациј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Минерализација-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кол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ина растворених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врстих материја које се у водама налазе у облику јона,недисоцираних молекула и колоида. Ова коли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ина сувих материја се одр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ује тако што се вода греје на 180º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му се добија суви остатак који омогу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ава класификацију минералних вода на : минералне -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ако садр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 више од 1гр/л и олигоминералне -ако садрзе мање од 1гр/л сувог остат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Јонски саста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Јонски састав-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представља садзај јона-катјона и ањона. Од  катјона нај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ш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 ср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мо: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, Mg++, Cа++, а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од ањона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CO³, Cl</a:t>
            </a:r>
            <a:r>
              <a:rPr b="0" lang="en-GB" sz="2600" spc="-1" strike="noStrike">
                <a:solidFill>
                  <a:srgbClr val="000000"/>
                </a:solidFill>
                <a:latin typeface="Symbol"/>
                <a:ea typeface="Symbol"/>
              </a:rPr>
              <a:t>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R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СО4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Елементи у трагу, али  биолошки врло активни, су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J, Br, Fe, S, As, Cu,  Co и др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Најзн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ајнији гасови су: CО2, H2С и радон. </a:t>
            </a:r>
            <a:br>
              <a:rPr sz="2600"/>
            </a:b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Поред њих сре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у се још и метан, етан, хелијум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7T09:08:06Z</dcterms:created>
  <dc:creator>WIN98SE</dc:creator>
  <dc:description/>
  <dc:language>en-US</dc:language>
  <cp:lastModifiedBy>katarinaparezanovicilic@gmail.com</cp:lastModifiedBy>
  <dcterms:modified xsi:type="dcterms:W3CDTF">2020-09-26T16:56:50Z</dcterms:modified>
  <cp:revision>13</cp:revision>
  <dc:subject/>
  <dc:title>Balneoterapija </dc:title>
</cp:coreProperties>
</file>