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media/image11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935-D84B-4B6C-A5D8-EEFFC354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293-3B23-4AB6-8E23-A53000A9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4561-2861-438F-9261-35FFDC77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A337-AB97-4A0E-9772-70F7D2445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51843-34D8-4C32-AACE-B567275E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B41D-40A1-4C53-9E01-04AE153A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FA1D-F085-4684-97BF-8C4D1DB5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70CF-B6F5-4A8B-8113-140F5FE0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8B4F2-DABF-40FA-AAC9-DC5285B2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DE55-22F2-4C4D-820A-0BCFCD4F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24841-EB04-43AD-913A-2FAAB66E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010-F71F-4755-A6EF-5CCC177D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31B4-BD66-4647-9F86-50B3FF8C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9306-CBFA-4120-9BBF-15626352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C0F40-0098-4A10-B1A0-F6B328598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0DF0A-57BA-4E29-8BD9-A6D5EFC6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43BE-3334-44F7-A0C1-4063DB49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1D6-89CA-4733-8EC9-B0959421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467E-E6B0-410E-84E3-C60B9E9C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F45-95F9-48BC-9063-6D8721A0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8D13-D858-4E10-85D3-A05F4CEF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46FC-7E67-46BF-8A37-464159A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68E5-B964-4273-8E76-0C1C18A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7C23-4ACF-4B1B-9179-3AA93DE7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A5A4-F10F-47AE-89C8-847F9F38A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0181-AD3A-439D-9766-911920C6F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podloga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931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1371600" y="4581360"/>
            <a:ext cx="6400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993300"/>
                </a:solidFill>
                <a:latin typeface="Times New Roman"/>
              </a:rPr>
              <a:t>Доц. др Катарина Парезановић Или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280" y="2133360"/>
            <a:ext cx="5480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Електротерапиј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кази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зме се стаклена чаша облика слова "У" и у једну страну стави анода а у другу катода. Физиолошки раствор се затим наспе се у чашу. Укључи се коло константне галванске струје. У сваки крак чаше облика "У" сипа се неколико капи фенолфталеина. У контакту са негативним полом фенолфталеин показује црвену бој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горе описан начин пропусти се галванска струја кроз физиолошки раствор и стави лакмус хартија. У пределу позитивног пола лакмус хартија је црвена, а у пределу негативног пола лакмус хартија мења боју у плав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еуралгије, компресивне радикулопатиј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лг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осттрауматска стања где је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 интактн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ериферна одузетос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тања после ЦВИ (обрнута галванизација катода дистално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клузивна васкуларна обољења екстремитета у фазама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по Фонтаинеу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морбус Раyнауд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еуматска обољењ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онтраиндикације: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метални предмети у ткиву (остеосинтезе)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те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ња ко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 на месту где треба да се апликују електроде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локална акутна запаље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декомпензација срца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фебрилна стањ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Дозир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тензитет оби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износи од 0,1-0,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Максимални интензитет на целој електроди не сме бити ве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 од 3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Он се м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лако изр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нати по формул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x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маскимални интензите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површина електр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 (интензитет струје по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) - зависно од индивидуалне осетљивости пацијент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е трају око 20 мин. У једној серији об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о се спроводи 10-15 процедура свакодневно, након тога следује пауза 10-15 дана. Неуспеси у терапијским 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цима су последица кратког трајања процедуре или слабог интензитета струј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Специјални облици примен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619280" y="1844640"/>
            <a:ext cx="70675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Негативна електроли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Јонофорез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Хидрогалванске купк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Електрофореза леко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Негативна електроли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ва процедура константне галванске струје подразумева контролисану деструкцију ткива кауст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м ефектом негативног пола. Користи се несразмера изм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ђ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електрода - негативни пол је платинска игла која се уводи у фоликул длаке (козметичке сврхе) или у подруцје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их израслина (тумора), а неактивна електрода је анода вели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е длана или цак и већа. Код депилације користи се интензитет 1-2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2-3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код тумор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5-2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у трајању 30-6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se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Поступак је бола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ндикације: Х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ртрихосис, вер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, келоидни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љак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Јонофореза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Јонофореза је поступак електорлизе негативним полом за стерилизацију канала корена и апликативног дела зуба. Ткивне тецности се крећу као и у другим ткивима доводећи до ефеката полова. Јони О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одрзавају оптимални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Х у периапикалним ткивима и имају антизапаљенски ефекат и бактерицидни ефекат. Истовремено, са стерилизацијом канала размекшава се дентинско ткиво и на тај нацин олакшава ширење канал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Хидрогалванске купк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Хидрогалванске купке се користе за в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површине. Третирани део тела (подлактица, подколеница или цело тело)је преко медијума тј. воде у контакту са извором галванске струје. Према броју када -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а имамо једн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дв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,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твор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лијске купке, а за апликацију целог тела користе се галванске кад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цедура траје као и галванизација 15-20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Серија је најмање 10 процедура сваки дан, а према сл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ју м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и ду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 трајати. Температура воде је 34-36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Индикације су исте као и код галванизације. Контраиндикације су: запаљења к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е, фебрилна стања, тешки ср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ни болесници, тромбофлебитиси и д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а  кадиц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"/>
          <p:cNvPicPr/>
          <p:nvPr/>
        </p:nvPicPr>
        <p:blipFill>
          <a:blip r:embed="rId2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Галванске кад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3800" cy="45306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52640" y="3068640"/>
            <a:ext cx="40338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имена галваске струје и хидротерапиј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струје (фреквенција 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Једносмерна галванска струја се користи као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абилна галваниз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.G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пецијални облици примене галванске струје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негативна електролиз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јонофорез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хидрогалванске (хидроелектришне) купк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лектрофореза леков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Једносмерне импулсне струје (ф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Ледуk-ов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Бернард-ов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DD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експоненцијалне струје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owarschik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одулиса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кутано уношење лекова по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 галванске струје назива се електрофореза лекова. Изнимно се лекови уносе и преко слузокозе (ендоназална електрофореза леков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ек се м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унети преко 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и слузоко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е само ако је растворљив у води и ако се лек у воденом раствору налази дисоциран. Електрофореза се заснива на кретању позитивних и негативних јона ка супротно наелектрисаним полови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Hittorf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указује на пролаз јона кроз глину,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Chatzky-e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на пролаз јона кроз свез кромпир, Лабатута оглед кроз мртво ткиво зивотињског порекла, а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Ensc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доказују кретање јона кроз зивотињски организам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3708360" y="1716120"/>
            <a:ext cx="5364360" cy="351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40338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јпознатији од свих је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Leducov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оглед који показује да се фармакодинамско дејство лека не мења при пролазу кроз зиви организам под деловањем галванске струј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Електрофореза лек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реме третмана добијамо дељењем броја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за конкретни лек са 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ном вреднош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у струје у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 m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која је подношљива за третирану особу. Струју 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A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тавамо на дисплеју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. Та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а иза друге цифре представља "зарез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пример, ако уносимо витамин 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аскорбинска киселина) ције је дозирање 100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/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, а на дисплеју оцитамо 5 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А (струја коју подноси тај пацијент), тада је време третмана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=100:5=20 minu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Object 10"/>
          <p:cNvGraphicFramePr/>
          <p:nvPr/>
        </p:nvGraphicFramePr>
        <p:xfrm>
          <a:off x="-468360" y="109440"/>
          <a:ext cx="8712360" cy="699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109440"/>
                    <a:ext cx="8712360" cy="699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867280" y="2565000"/>
            <a:ext cx="327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Електрофореза </a:t>
            </a:r>
            <a:br>
              <a:rPr sz="3200"/>
            </a:br>
            <a:r>
              <a:rPr b="1" lang="en-US" sz="3200" spc="-1" strike="noStrike">
                <a:solidFill>
                  <a:srgbClr val="feec94"/>
                </a:solidFill>
                <a:latin typeface="Times New Roman"/>
              </a:rPr>
              <a:t>лекова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1120" y="387000"/>
            <a:ext cx="762768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Подела е</a:t>
            </a:r>
            <a:r>
              <a:rPr b="1" lang="en-US" sz="4400" spc="-1" strike="noStrike">
                <a:solidFill>
                  <a:srgbClr val="feec94"/>
                </a:solidFill>
                <a:latin typeface="France YU"/>
                <a:ea typeface="Times New Roman"/>
              </a:rPr>
              <a:t>лектротерапиј</a:t>
            </a:r>
            <a:r>
              <a:rPr b="1" lang="sr-Latn-CS" sz="4400" spc="-1" strike="noStrike">
                <a:solidFill>
                  <a:srgbClr val="feec94"/>
                </a:solidFill>
                <a:latin typeface="Times New Roman"/>
              </a:rPr>
              <a:t>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8710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тати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ч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ки електрицитет (франклиниз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V 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Наизменишне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Струје ниске фреквенције (фреквенција д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фарадска струја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транскутана електришна неурална стимулац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ENS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Струје средње фреквенције (фреквенција преко 1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струје средње фреквенције - интерферентне Немец струје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Синусоидно модулисане струје (Руска стимулација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Високофреквентне струје - фреквенција преко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а) Д'Арсонвализација (фреквенција 1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б) Дуготаласна дијатермија (фреквенција 500.000 - 1.000.0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в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краткоталасна дијатермија (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TD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фреквенција 10-10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ултракараткоталасна дијатермија (фреквенција 434,78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д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 микроталасна дијатермија (фреквенција 2.450</a:t>
            </a:r>
            <a:r>
              <a:rPr b="0" lang="sr-Latn-CS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MHz</a:t>
            </a:r>
            <a:r>
              <a:rPr b="0" lang="en-GB" sz="2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Галванска струј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Једносмерна струја представља облик електришне енергије која у одре|еном временском интервалу не мења свој ток. Ако се при томе не мења ни интензитет ни напон, тада говоримо о константној једносмерној струји, тј. галванској струји. Деловање галванске струје на организам заснива се на особини поларитета, а то условљава примарно физишко и секундарно физиоло</a:t>
            </a:r>
            <a:r>
              <a:rPr b="0" lang="sr-Latn-CS" sz="2400" spc="-1" strike="noStrike">
                <a:solidFill>
                  <a:srgbClr val="ffffff"/>
                </a:solidFill>
                <a:latin typeface="Times New Roman"/>
              </a:rPr>
              <a:t>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ко деловање на организ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Облици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78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лонгитудин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а су електроде постављене на крајевима третираног дела, односно дуз екстремитет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Апликација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трансверзалн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галванизациј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кадa се третирани предeо налaзи iзме|у елeктрода (предња и задња странa лакта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653000" y="1600200"/>
            <a:ext cx="403380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Примарно деловање полова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Ан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исел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лгезиј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тиедематоз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коагула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мањује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анафореза сушење тк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умирујуће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cc"/>
                </a:solidFill>
                <a:latin typeface="Times New Roman"/>
              </a:rPr>
              <a:t>Кат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базна среди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ње осетљивости на б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купљање вод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квефакциона некроз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ава пермеабил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повећва осмостски притиса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влажнос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дражајно деловањ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eec94"/>
                </a:solidFill>
                <a:latin typeface="Times New Roman"/>
              </a:rPr>
              <a:t>Секундарно деловање галванске струј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23640" y="3933720"/>
            <a:ext cx="60483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тонуса вазомотор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) тонуса миши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ћ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ц) модулације бола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) трофике и метаболизм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121440" cy="2131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katarinaparezanovicilic@gmail.com</cp:lastModifiedBy>
  <dcterms:modified xsi:type="dcterms:W3CDTF">2020-09-26T16:57:35Z</dcterms:modified>
  <cp:revision>19</cp:revision>
  <dc:subject/>
  <dc:title>Elektroterapija</dc:title>
</cp:coreProperties>
</file>