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02A7-9BDF-4BD7-8F14-A47CF651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DF6B-2833-47C0-8EE5-4E6366C1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196-CB1E-492A-B4B8-F7742C62C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4B9-DC8D-4896-A71D-B3D5B32B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F4D7-F94D-4F35-8EE4-141CC53C4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DA9E-0E73-430F-AF53-FD4F76DE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EF33-1DD8-4D33-A055-659ED041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09A2-C02C-4179-9D8F-5291E83C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7F371-4B92-49F5-BA8F-F86D23CB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24DD-3DF4-4611-BFB0-163F16D3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464A-46C7-44F7-A9F3-63012B5D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92E-246D-4FB1-835F-3EC31606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41A8A-4852-49EE-9FA8-9E88EAC2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5641-2248-41AB-9475-7CD7FDD73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DA1CB-CD35-4F99-A265-8F05A4C6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C48F-84B6-4442-8D86-D6B0E029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841A2-1C34-4C02-875E-BC28BD31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1E97-D622-4D4A-8CF5-AD47EC2D3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6E15-F8BE-49A6-A8A8-303CD4FD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408E-FE5F-4CB0-B10C-F712DDD4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1118-67FC-426C-9B93-12C91DB5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CF2B-6CD1-4626-AA53-DB3CFF5A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18A-267D-483D-98F9-F36656C9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7F4F-C804-461D-AF7E-453B7F6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0153-0B28-4502-8F50-48DE435EF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d7d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4EB3-E945-4039-8D91-B66FF38F0CC7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podloga"/>
          <p:cNvPicPr/>
          <p:nvPr/>
        </p:nvPicPr>
        <p:blipFill>
          <a:blip r:embed="rId1"/>
          <a:stretch/>
        </p:blipFill>
        <p:spPr>
          <a:xfrm>
            <a:off x="571680" y="50004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6666"/>
                </a:solidFill>
                <a:latin typeface="Verdana"/>
              </a:rPr>
              <a:t>Доц. др Катарина Парезановић Илић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1988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2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Модулисане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Модулације представљају "пакете" импулса где се интензитет пов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ава постепено, а затим постепено смањује. Изме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у тих "пакета" импулса налази се пауза. На овај н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 добијају се модулисане струје по ја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ни где за време трајања модулационог импулса м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је стално контрахован, а за време паузе долази до деко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тракције и одмор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мпулси преко 30 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и паузе 50-60</a:t>
            </a:r>
            <a:r>
              <a:rPr b="0" lang="sr-Latn-CS" sz="20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се не модулису јер такви импулси изазивају појединацне контракције. Број модулација - фреквенција модулације оби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но је 6-30 у минути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1547640" y="3168720"/>
            <a:ext cx="61930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816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II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	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Једносмернe импулсне струје (фекв</a:t>
            </a:r>
            <a:r>
              <a:rPr b="1" lang="sr-CS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е</a:t>
            </a: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нција до 1000 Hz)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92000" y="2354040"/>
            <a:ext cx="69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) Leduc-ova струја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) Bernard-ove (DDS) стр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) експон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н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ијал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у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је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Kowarschik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) модулисане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уј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Leduc-ove стру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мпулсна галванизација је поступак у ком се користе импулси релативно мале амплитуде који су испод прага поб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вања моторичких неурона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импулсној галванизацији нај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се користе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DD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(дијадинамицне струје) и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ове струје имају импулс 2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у 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литератури се ср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 појмови “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ltrareiz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 (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ји),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Traebertove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струје и сл. Аналгезија код стабилне галванизације се пост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 испод аноде, а код импулсне галванизације испод катод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ec85e"/>
                </a:solidFill>
                <a:latin typeface="Times New Roman"/>
                <a:ea typeface="Times New Roman"/>
              </a:rPr>
              <a:t>Bernard-ove (DDS) струје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51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ке струје се састоје из серије разл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ито модулисаних импулса по у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сталости, интензитету, облику и амплитуди. Фреквенција је од 50 до 1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Ове модулације се комбинују са галванском струјом (база) ниског интензитета до 2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Дијадинам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не струје се називају и Бернардове струје јер их је француски стоматолог Бернард увео у терапијску примену 1960. год. 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5813280" y="1600200"/>
            <a:ext cx="2862360" cy="4530600"/>
          </a:xfrm>
          <a:prstGeom prst="rect">
            <a:avLst/>
          </a:prstGeom>
          <a:ln w="9360">
            <a:solidFill>
              <a:srgbClr val="eaeaea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ec85e"/>
                </a:solidFill>
                <a:latin typeface="Times New Roman"/>
              </a:rPr>
              <a:t>Експоненцијалне струје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кспоненцијална струја представља галванску струју импулсног тока. Трајање импулса се кре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и до 2000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. Интензитет који се мо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 применити је и до 80 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А. Прве резултате о кори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ћ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ењу експоненцијалних струја даје Бергони (1895) и описује то појмом "електрогимнастика". Но, детаљан опис и обја</a:t>
            </a:r>
            <a:r>
              <a:rPr b="0" lang="sr-CS" sz="22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њења деловања експоненцијалних струја даје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(1951) па се експоненцијалне струје називају Коwа</a:t>
            </a:r>
            <a:r>
              <a:rPr b="0" lang="sr-Latn-CS" sz="2200" spc="-1" strike="noStrike">
                <a:solidFill>
                  <a:srgbClr val="eaeaea"/>
                </a:solidFill>
                <a:latin typeface="Times New Roman"/>
              </a:rPr>
              <a:t>rschik</a:t>
            </a:r>
            <a:r>
              <a:rPr b="0" lang="en-US" sz="2200" spc="-1" strike="noStrike">
                <a:solidFill>
                  <a:srgbClr val="eaeaea"/>
                </a:solidFill>
                <a:latin typeface="Times New Roman"/>
              </a:rPr>
              <a:t> -ове струје</a:t>
            </a:r>
            <a:endParaRPr b="0" lang="en-US" sz="2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5105520" y="2819520"/>
            <a:ext cx="3809880" cy="2649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6858000" y="1447920"/>
            <a:ext cx="18288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u - период улаз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tp - период pаda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Times New Roman"/>
              </a:rPr>
              <a:t>паузa = T - t1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81160"/>
            <a:ext cx="78454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Облици импулс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а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правоугао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б) троугла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д) експоненцијал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ц) синусоид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е) трапезоид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ф) комбинован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г) Треагернове стру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х) руска стимулац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3851280" y="1989000"/>
            <a:ext cx="4971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60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eec85e"/>
                </a:solidFill>
                <a:latin typeface="Times New Roman"/>
              </a:rPr>
              <a:t>Однос угла и интензитета импулс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859280" y="2636640"/>
            <a:ext cx="382752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ђ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узависност нагибног угла и интензитета (ефикасност импулса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457200" y="2492280"/>
            <a:ext cx="4035600" cy="22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2120" y="328680"/>
            <a:ext cx="8161200" cy="10778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Здрав, нормалан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ако се дражи троугластим импулсима има могу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ст да се прилагоди на постепен пораст интензитета и не одговара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ном контракцијом на мали интензитет. Код по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 интензитета од 40-60 мА и здрави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 имају одговор на дражење троугластим импулсима. Млитаво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нема способност акомодације, в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и на мале импулсе када се дражи троулгастим импулсима. Услед тога одузет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код лезије периферног моторног неурона реагује и на мале интензитете 10-20 мА. На овај нацин ми применом експоненцијалних струја м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мо селективно дражити одузете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ec85e"/>
                </a:solidFill>
                <a:latin typeface="Times New Roman"/>
              </a:rPr>
              <a:t>Акомодабилитет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Променом трајања импулса експоненцијална струја се може прилагодити било ком степену периферне одузетости. Уколико је најтеже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е примењује се експоненцијална струја са дужим трајањем импулса - 500-1000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пауза је до 2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код несто лак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до 10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и код лаких о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импулс траје 50-125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а пауза 250-50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Нормално над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љив м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реагује на 0,1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ms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трајања импулса, а пауза је до 20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m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У току ле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ења код побољ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ања, опоравка периферног моторног неурона скра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ују се импулси и пауза, а побољшава се акомодибилитет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7:57:46Z</dcterms:created>
  <dc:creator>WIN98SE</dc:creator>
  <dc:description/>
  <dc:language>en-US</dc:language>
  <cp:lastModifiedBy>katarinaparezanovicilic@gmail.com</cp:lastModifiedBy>
  <dcterms:modified xsi:type="dcterms:W3CDTF">2020-09-26T16:58:50Z</dcterms:modified>
  <cp:revision>19</cp:revision>
  <dc:subject/>
  <dc:title>II Jednosmerne impulsne struje (fekvencija do 1000 Hz)</dc:title>
</cp:coreProperties>
</file>